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EFC-DA91-4204-B144-2F46348E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4A7-25DF-4DC2-A273-95A2523F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FBC-6FED-4AE9-B4AA-3D748924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B5F-6600-4DC7-A5FF-A096AE44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2A5B-B3E4-4B9B-8F45-872DB75C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E1A-BC95-45A6-BA69-AD4B9E3A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9CD-47A8-4633-9451-2E0B1137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9C7-7728-4EE0-A143-1A31252B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D3B-7C03-461C-A3AC-96AC0CBA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FFE-1AD9-4869-A999-CAC43645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BF3-EF21-4E8A-914D-C972E927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57D-7977-4613-83BF-5EA0FCE8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351D-AFAD-4A57-B942-A05BAC35C35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68520" y="2637000"/>
            <a:ext cx="65437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texto y tendencias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los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istemas de Registros Contables (SRC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31800" y="476280"/>
            <a:ext cx="8642520" cy="58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61960" y="54936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CONCEPTO DE DOC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216080"/>
            <a:ext cx="9093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da representación material destinada a reproducir una cierta manifestación del pensamiento, con capacidad de generar efectos juríd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racterísticas que debe reun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gr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Íntegro, sin modificación al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utorí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dentificación indubitable del generador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alterabi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nculado al medio de almacenamien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Perdurabi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formación persistente en el tiempo en su so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60880" y="549360"/>
            <a:ext cx="43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CONCEPTO DE DOCUMENTO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8880" y="1711440"/>
            <a:ext cx="8948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t. 6 L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ntiende por documento digital la representación digital de actos o hechos con independencia del soporte utilizado para su fijación, almacenamiento o arch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documento digital satisface el requerimiento de Escri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t. 11 L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documentos electrónicos firmados digitalmente son considerados “original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t. 12 L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documentos firmados digitalmente, siempre que sean accesibles para su consulta y permitan determinar su origen, destino, fecha y hora, satisfacen la exigencia legal de conserv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2680" y="54936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REUNIONES A DI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100080" y="1736640"/>
            <a:ext cx="91774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be existir u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venio privado de reunión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con el siguiente conteni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tes que intervie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jación de un domicilio electró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bjeto del Convenio. Admitir como válidas y vinculan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convocatoria a reun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archivos cursados y cruzados por mail, como documento electrón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.1)  La convocatoria a reun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.2)  La comunicación de asis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.3)  La firma digital del libro de asistencia (si correspondi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.4)  El procedimiento de constancia o asiento de la firma del 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.5)  El procedimiento de envío cruzado de los archivos magnéticos firmados electrónic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.6)  El procedimiento y plazo de envío de textos borradores de ac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.7)  El procedimiento y plazo d envío del texto definitivo del 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.8)  El procedimiento de transcripción, asiento o incorporación  al libro rubri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.9)  El procedimiento y soporte de guarda y conservación de los archivos magnéticos con F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0200" y="1052640"/>
            <a:ext cx="9906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4) Obligaciones de cada pa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) Por parte del responsable legal o convencional de la reun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.1)  Acusar recibo de la solicitud de asistencia o firma del 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.2)  Acusar recibo de la firma del libro de asistencia recibida por correo electrónico firm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.3)  Conceder el uso de la palabra en el orden solicitado por el presente electró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.4)  Proporcionar por correo electrónico simple dentro de los plazos aceptados, el texto borrador del 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.5)  Aceptar modificaciones a tal borrador, mediante igual medio de comun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.6)  Transformar el texto definitivo en un documento electrónico firmado digitalmente y enviar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.7)  Transcribir el texto definitivo en el libro pertinente, consignar las firmas digitales firmarlo autógraf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.8)  Imprimir en soporte papel los instrumentos informáticos que servirán de originales (LFD), si es neces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.9)  Comprometerse a la gua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) Por parte del participante electrónico o dista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.1)  Activar el programa de comunicación electrónica una hora antes de la fijada como inicio de la reun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.2)  Cursar correo electrónico firmado que contenga los datos conven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.3)  Solicitar el uso de la palabra a quien corresponda. Emitir voto en forma clara e indud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.4)  Responder por correo electrónico simple, dentro de los plazos aceptados, el texto borrador del acta de reun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.5)  Firmar digitalmente el texto definitivo recibido por idéntico medio y enviarlo dentro de los plazos conven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.6)  Comprometerse a la guarda, en soportes que resulten convenientes y accesibles, firmados digital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8520" y="1730520"/>
            <a:ext cx="97059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) Las obligaciones comunes, serán por lo menos las siguien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.1)  Contar con certificado digital vig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.2)  Dejar establecido el soft de comunicación de correo electró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.3)  Establecer un medio de validez para el perfeccionamiento juríd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.4)  Comunicar el domicilio electrónico o su cambio, por medio fehac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.5)  Habilitar operativamente el domicilio electró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.6)  Recibir y emitir únicamente información electrónica encriptada y firmada digitalmente en las comun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.7)  El reconocimiento del contenido de las comunicaciones impreso en soporte papel, como medio probato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.8)  Aplicación de leyes específicas que prescriben la reunión de socios (procedimiento, competencia, conteni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.9)  Establecida la comunicación se sumará el quorum (presentes y/o electrónicos) y ejercerán su derecho a vo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.10)  Convenir efectos jurídicos ante “caídas del sistema”, ya que afecta al quorum estableci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.11)  Concluida la reunión y desconectado el presente a distancia, en forma inmediata y mutua, las partes cursar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archivos generados por el programa de reunión como documentos firmados digitalmente, toda vez que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u tamaño puedan ser enviados por correo electrónico. De no ser posible, se mantendrán en el ordenador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soportes como CD, DVD u otros, en la sede de la reun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61240" y="189000"/>
            <a:ext cx="550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DETERMINACIÓN DE LA LEGAL FOR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N MEDIOS ALTERNATIVOS DE REG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10608" t="15759" r="7543" b="15826"/>
          <a:stretch/>
        </p:blipFill>
        <p:spPr>
          <a:xfrm>
            <a:off x="415800" y="98100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10636" t="11092" r="8643" b="18274"/>
          <a:stretch/>
        </p:blipFill>
        <p:spPr>
          <a:xfrm>
            <a:off x="560520" y="115920"/>
            <a:ext cx="871380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568440"/>
            <a:ext cx="72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DIOS E INSTRUMENTOS DE LA REGISTRACIÓN DE LOS 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71000" y="1986120"/>
            <a:ext cx="7693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 almacenamiento óp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egurar integridad y aut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bros de Leyes especi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iterio AF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istro del Art. 52 LC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bros societar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bro de reuniones, soci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uniones a di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accionist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ocumentación respaldator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ocumento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17840" y="21906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17840" y="465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17840" y="54849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17840" y="3005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23720"/>
            <a:ext cx="89503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CONTEXT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Libertad de formas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rt. 974 C. Civil. La fuerza jurídica de las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venciones, emana de la voluntad individual de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contratantes, y no del cumplimiento de formas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cramen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Omnipresencia de Interne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Sistema de procesamiento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Seguridad Infor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Protección de datos pers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1606" t="31673" r="13817" b="10265"/>
          <a:stretch/>
        </p:blipFill>
        <p:spPr>
          <a:xfrm>
            <a:off x="177840" y="844560"/>
            <a:ext cx="9432720" cy="5321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4520" y="42372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MNIPRESENCIA EN INTERNET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3800" y="42372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STEMA DE PROCESAMIENTO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5800" y="1721160"/>
            <a:ext cx="91458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Base de datos centraliz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os módulos interactúan entre sí consolidando todas las opera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os datos se ingresan sólo una vez y deben ser consistentes, completos y comu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ús modulares configur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endencia actual es a ofrecer aplicaciones especializadas para determi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pres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Altos volúmenes de impresión de las regist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4880" y="42372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GURIDAD INFOR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0800" y="2422440"/>
            <a:ext cx="8649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Implementación de ac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Norma ISO 27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Resolución 11-06 Dirección General de Protección de Datos Personales (DGPD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4160" y="423720"/>
            <a:ext cx="45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TECCIÓN DE DATOS PERS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5240" y="2276640"/>
            <a:ext cx="9044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ey 25.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pectos sustanci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Obligatoriedad de registrar la tenencia de bases de datos que conten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 Pers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Prohibición de constituir bases de datos con información de carácter sen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62680" y="549360"/>
            <a:ext cx="52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HERRAMIENTAS DE AUTORÍA E INTEG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8880" y="2349360"/>
            <a:ext cx="895032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88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88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rm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88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rma Electr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tilización de claves asimétricas para la protección de la clave privada del firm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el uso de las firmas digitales y electró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60520" y="549360"/>
            <a:ext cx="48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FIRMA DIGITAL VS. FIRMA ELECTR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0360" y="1844640"/>
            <a:ext cx="941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FIRMA DIGI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VS.       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FIRMA ELECTR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idez probatoria       Autorí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Aut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gr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Integ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repudi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---------------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utoriz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Ente licenciant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Acuerdo de pa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ficacia Jurídica          S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ide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Periodo de vigencia del Certif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Periodo de vigencia del acue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ificación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Ver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8:47:00Z</dcterms:created>
  <dc:creator>mjonte</dc:creator>
  <dc:description/>
  <dc:language>en-US</dc:language>
  <cp:lastModifiedBy>CPCEACABA</cp:lastModifiedBy>
  <dcterms:modified xsi:type="dcterms:W3CDTF">2011-04-12T18:06:43Z</dcterms:modified>
  <cp:revision>21</cp:revision>
  <dc:subject/>
  <dc:title>Diapositiva 1</dc:title>
</cp:coreProperties>
</file>